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B9B-449A-4289-9981-3B6FA937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F2B-D9CF-40C8-B7F8-1CAAC680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799-59AB-49AC-8B9E-9EE3B6FB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D88-877C-4D6F-A357-ECB8B834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A67-157C-4DAC-9432-696FE73B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375-F599-4C4E-81AC-A2762956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FA4-8395-40EF-9533-2D4486A1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9E1-267A-4991-87DE-288D4CAB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D54-E8E9-4A4F-8E8F-40B31989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156-2191-4F05-AF08-D0718280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DA6-2F57-42AB-88AC-8F877827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7D3-DE07-4FB4-98D6-47D69929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7370-9D1A-4400-A7F3-3D5B461A8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-alpha.co.jp/flag/oceania/big_flag/nz.gif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hyperlink" Target="http://www.p-alpha.co.jp/flag/oceania/big_flag/nz.gif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ogo"/>
          <p:cNvPicPr/>
          <p:nvPr/>
        </p:nvPicPr>
        <p:blipFill>
          <a:blip r:embed="rId1"/>
          <a:stretch/>
        </p:blipFill>
        <p:spPr>
          <a:xfrm>
            <a:off x="3154320" y="3551400"/>
            <a:ext cx="2683080" cy="307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066680" y="1371600"/>
            <a:ext cx="68580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etterOMatic!"/>
              </a:rPr>
              <a:t>Welcome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etterOMatic!"/>
              <a:ea typeface="LetterOMatic!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etterOMatic!"/>
              </a:rPr>
              <a:t>To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etterOMatic!"/>
              <a:ea typeface="LetterOMatic!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etterOMatic!"/>
              </a:rPr>
              <a:t>Wakaaranga school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etterOMatic!"/>
              <a:ea typeface="LetterOMatic!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914400" y="152280"/>
            <a:ext cx="724860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hiller"/>
              </a:rPr>
              <a:t>Kiwi Kids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3880" y="167652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r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rockin’ it, rock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to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living it, living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what we’ve g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ds can do anything, any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it a 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rockin’ it, rockin’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 watch us f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914400" y="152280"/>
            <a:ext cx="724860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hiller"/>
              </a:rPr>
              <a:t>Kiwi Kids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3880" y="167652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rockin’ it, rock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to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living it, living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what we’ve g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ds can do anything, any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it a 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rockin’ it, rockin’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 watch us f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3880" y="2133720"/>
            <a:ext cx="66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tiho rawe tatou Ka wari ke tatou Ka tarea e tat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ds can do anything, any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it a 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rockin’ it, rockin’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 watch us f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3"/>
          <p:cNvSpPr txBox="1"/>
          <p:nvPr/>
        </p:nvSpPr>
        <p:spPr>
          <a:xfrm>
            <a:off x="914400" y="152280"/>
            <a:ext cx="724860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hiller"/>
              </a:rPr>
              <a:t>Kiwi Kids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914400" y="38088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etterOMatic!"/>
              </a:rPr>
              <a:t>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etterOMatic!"/>
              <a:ea typeface="LetterOMatic!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838080" y="533520"/>
            <a:ext cx="7239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EASE ST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 SING 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REAN AND NEW ZEAL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TIONAL ANTHE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1" descr="j0343325"/>
          <p:cNvPicPr/>
          <p:nvPr/>
        </p:nvPicPr>
        <p:blipFill>
          <a:blip r:embed="rId1"/>
          <a:stretch/>
        </p:blipFill>
        <p:spPr>
          <a:xfrm>
            <a:off x="3276720" y="4038480"/>
            <a:ext cx="2438280" cy="2409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ttps://encrypted-tbn3.gstatic.com/images?q=tbn:ANd9GcRoJWr0nYEV_-8Q9qk4fr2tF5B9bWYLAClXw_QibPfWPgqGXilsGw"/>
          <p:cNvPicPr/>
          <p:nvPr/>
        </p:nvPicPr>
        <p:blipFill>
          <a:blip r:embed="rId2"/>
          <a:stretch/>
        </p:blipFill>
        <p:spPr>
          <a:xfrm>
            <a:off x="304920" y="4667400"/>
            <a:ext cx="2571480" cy="178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https://encrypted-tbn0.gstatic.com/images?q=tbn:ANd9GcQ-UMoHS9y7Fe3PRMg8MBqUseqU9Ah_VAcixLVFqMbV2xJsVPGs"/>
          <p:cNvPicPr/>
          <p:nvPr/>
        </p:nvPicPr>
        <p:blipFill>
          <a:blip r:embed="rId3"/>
          <a:stretch/>
        </p:blipFill>
        <p:spPr>
          <a:xfrm>
            <a:off x="6172200" y="4800600"/>
            <a:ext cx="2286000" cy="11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4191120" y="17175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d of nations at thy fee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bonds of love we mee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 our voices, we entrea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d defend our free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rd Pacific's triple sta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shafts of strife and wa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her praises heard afa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d defend New Zeal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80880" y="240444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hoa Atua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nga Iwi Matoura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a whaka rongona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 aroha n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a hua ko te pai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a tau to atawhai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akitia ma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1" descr="nz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533520"/>
            <a:ext cx="2590920" cy="1303200"/>
          </a:xfrm>
          <a:prstGeom prst="rect">
            <a:avLst/>
          </a:prstGeom>
          <a:ln w="0">
            <a:noFill/>
          </a:ln>
        </p:spPr>
      </p:pic>
      <p:pic>
        <p:nvPicPr>
          <p:cNvPr id="50" name="01 Track 1.wma" descr=""/>
          <p:cNvPicPr/>
          <p:nvPr/>
        </p:nvPicPr>
        <p:blipFill>
          <a:blip r:embed="rId4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WordArt 29"/>
          <p:cNvSpPr txBox="1"/>
          <p:nvPr/>
        </p:nvSpPr>
        <p:spPr>
          <a:xfrm>
            <a:off x="3276720" y="76212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aiandra GD"/>
              </a:rPr>
              <a:t>New Zea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aiandra GD"/>
              <a:ea typeface="Maiandra G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aiandra GD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aiandra GD"/>
              </a:rPr>
              <a:t>National Anth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aiandra GD"/>
              <a:ea typeface="Maiandra GD"/>
            </a:endParaRPr>
          </a:p>
        </p:txBody>
      </p:sp>
      <p:pic>
        <p:nvPicPr>
          <p:cNvPr id="52" name="Picture 30" descr="nz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525600"/>
            <a:ext cx="259092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https://encrypted-tbn3.gstatic.com/images?q=tbn:ANd9GcRoJWr0nYEV_-8Q9qk4fr2tF5B9bWYLAClXw_QibPfWPgqGXilsGw"/>
          <p:cNvPicPr/>
          <p:nvPr/>
        </p:nvPicPr>
        <p:blipFill>
          <a:blip r:embed="rId1"/>
          <a:stretch/>
        </p:blipFill>
        <p:spPr>
          <a:xfrm>
            <a:off x="457200" y="457200"/>
            <a:ext cx="257184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s://encrypted-tbn3.gstatic.com/images?q=tbn:ANd9GcRoJWr0nYEV_-8Q9qk4fr2tF5B9bWYLAClXw_QibPfWPgqGXilsGw"/>
          <p:cNvPicPr/>
          <p:nvPr/>
        </p:nvPicPr>
        <p:blipFill>
          <a:blip r:embed="rId2"/>
          <a:stretch/>
        </p:blipFill>
        <p:spPr>
          <a:xfrm>
            <a:off x="6172200" y="457200"/>
            <a:ext cx="2571840" cy="1781280"/>
          </a:xfrm>
          <a:prstGeom prst="rect">
            <a:avLst/>
          </a:prstGeom>
          <a:ln w="0">
            <a:noFill/>
          </a:ln>
        </p:spPr>
      </p:pic>
      <p:sp>
        <p:nvSpPr>
          <p:cNvPr id="55" name="WordArt 29"/>
          <p:cNvSpPr txBox="1"/>
          <p:nvPr/>
        </p:nvSpPr>
        <p:spPr>
          <a:xfrm>
            <a:off x="3276720" y="76212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aiandra GD"/>
              </a:rPr>
              <a:t>Kore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aiandra GD"/>
              <a:ea typeface="Maiandra G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aiandra GD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aiandra GD"/>
              </a:rPr>
              <a:t>National Anth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aiandra GD"/>
              <a:ea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WordArt 5" descr=""/>
          <p:cNvPicPr/>
          <p:nvPr/>
        </p:nvPicPr>
        <p:blipFill>
          <a:blip r:embed="rId1"/>
          <a:stretch/>
        </p:blipFill>
        <p:spPr>
          <a:xfrm>
            <a:off x="1695600" y="2889360"/>
            <a:ext cx="5808600" cy="927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371600" y="9144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unster Bash"/>
              </a:rPr>
              <a:t>Please Welcome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unster Bash"/>
              <a:ea typeface="Munster B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752480" y="1752480"/>
            <a:ext cx="5791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Munster Bash"/>
              </a:rPr>
              <a:t>Wakaaranga Student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Munster Bash"/>
              <a:ea typeface="Munster Bash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Munster Bash"/>
              </a:rPr>
              <a:t>wel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Munster Bash"/>
              <a:ea typeface="Munster B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914400" y="152280"/>
            <a:ext cx="724860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hiller"/>
              </a:rPr>
              <a:t>Kiwi Kids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90720" y="182880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Now the show begins as the spotlight beams upon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You can see us, centre s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e’re your kids, your h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e’re the heroes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e’re the new unwritten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The time has come around at last for us to show the world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066680" y="304920"/>
            <a:ext cx="724860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hiller"/>
              </a:rPr>
              <a:t>Kiwi Kids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523880" y="167652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rockin’ it, rock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to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living it, living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what we’ve g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ds can do anything, any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it a 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wi kids are rockin’ it, rockin’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 watch us f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914400" y="152280"/>
            <a:ext cx="724860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hiller"/>
              </a:rPr>
              <a:t>Kiwi Kids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19810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the game beg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see us from the sideli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in the winning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’re the best there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can take it to the lim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can live our wildest drea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ime has come around at last for us to show the world tha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01:10:01Z</dcterms:created>
  <dc:creator>nicholls</dc:creator>
  <dc:description/>
  <dc:language>en-US</dc:language>
  <cp:lastModifiedBy>Martin</cp:lastModifiedBy>
  <dcterms:modified xsi:type="dcterms:W3CDTF">2014-07-25T03:32:41Z</dcterms:modified>
  <cp:revision>148</cp:revision>
  <dc:subject/>
  <dc:title>Slide 1</dc:title>
</cp:coreProperties>
</file>